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png" ContentType="image/png"/>
  <Override PartName="/ppt/media/image10.wmf" ContentType="image/x-wmf"/>
  <Override PartName="/ppt/media/image2.png" ContentType="image/png"/>
  <Override PartName="/ppt/media/image6.png" ContentType="image/png"/>
  <Override PartName="/ppt/media/image14.wmf" ContentType="image/x-wmf"/>
  <Override PartName="/ppt/media/image23.wmf" ContentType="image/x-wmf"/>
  <Override PartName="/ppt/media/image22.wmf" ContentType="image/x-wmf"/>
  <Override PartName="/ppt/media/image5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F4517-944A-4036-A500-67B49F7C1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9299-FE20-4DEE-9013-AC5A05F84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0DC1C2-182E-4F26-865A-2CD6918DC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16F9D-371B-4CA4-B42B-5BB3BD3FF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559972-728B-4EA9-88C7-6651BA016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B943A4-797B-48F1-9C93-E28C2B745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844B2D-E281-4EA3-BD7F-2B84B387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C49911-E6DC-4E7D-AD8D-8E59BBDD3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BCBAA5-6F36-481D-82A7-3F98AFEF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FE7A2B-4FAB-4AF1-ABD5-F39071E90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60AA3-A426-4579-B79E-193E4D51B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3830AFF-7208-4D10-8CCA-3E8B6F8A8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FEAF-3571-4C56-B34F-5B92A75467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3ABEEB-7AB4-4B79-8895-67DDCB613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C218C-A4FB-4BC1-8FDB-BCFCA0B08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6AF4C7-73E9-4E31-BD92-44CF9ADC0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99B768-3162-42C6-8DB7-B9977DAA4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4E7CC-BB49-483A-88C1-EEDC0EC91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05B14B-0855-438E-A63B-D5A2600E6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758230-5B8C-41DF-845B-7870DABB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71C165-56DB-4889-B358-E5CF0D18E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171A3D-510C-41B9-A0E2-368544D8F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558482-0C92-4347-B27D-43E1284FD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5E96-CBF9-48DA-9F04-033B43D339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332FEF-36EA-4BF8-BB63-6E3F8397F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385762C-EB76-4611-944B-565C0DD2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57D921-AC49-4349-AF52-B26D09801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06D8B43-CA8C-414A-B832-2D467E9AC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B2701A7-56C5-4F33-B10A-FB0E9A9D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45260AC-6B28-4A11-A0D6-E4D7060CA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A484987-F3C8-4A65-8C66-0E1FC3BC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BECA13A-340D-4349-B9DD-8FBEAD3F1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D5CE011-49B4-41D1-A0E6-9D3EBCCF3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2131B71-6BCE-465B-BF3E-DB535D436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359A5-B8E6-4A7E-B06C-024D3DB56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93B00D3-F36F-4E86-BBAF-17272079F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51F3142-0836-4F03-A85A-88CCA063F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0DC0CA8-8201-43F6-A462-F609B2DE7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CF1861-DF3D-4732-BAEF-5B4D11A3E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1A7266-98A8-430F-9FCF-18BF5262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4DB5C9-F695-4AC5-AC70-5233DD1C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60669-11B9-4F31-9D68-B72373F32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6338AC-384E-4922-A42C-7CE478AF9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7FC0B-61A4-4390-843F-DC3F52D1B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C1850B-5F8F-4FC1-8877-FE34DDD14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938AF-67E0-47AD-AFEE-4126D90FA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E6FF27-0FE8-44ED-934D-94EF450EE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CEC631-4F7E-4577-8E52-ACE8B2CA1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73AB19-9077-4082-B44C-3BA64E7FC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24A8AE9-133E-4218-A932-5207D1F88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915DC-ACD2-4940-80A7-4E9EBD663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08900-B4D6-4FF0-A138-B9EE6EFF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C0F3E-7773-491D-8990-6FCDB970A0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0CE74-4A50-4D45-880E-22E4EB5F0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C2EB9-91A2-452E-807C-3BA597FB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BF82C-76CA-4DD8-B76B-BCDE28A7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C7B4-8AE3-45F1-A4B0-D4FBED895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ECD33-65EE-43C3-BCD7-0FA11422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106B7-A66D-46D3-AB0D-3ABBF2A28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46789-AA81-4D26-AE93-92D46B40B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7722C-0EAD-4F99-887E-6949587BA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B0F27-A673-4EFE-A5A0-5D83D92D6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46EB10-A9A8-4B33-A1AB-3879DC78B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5DE39-B767-48AF-8359-C39B8BE41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D3F80C-224D-4096-A32D-2F0621ADD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AD7A71-BACC-4F42-B110-DC243D48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E6C7F0-8EE9-4B66-BBF5-D82539BE1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926B-3A61-434A-ADD0-04A3B626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7750B-BA23-476A-933C-03DE72C96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BF78C1-2C52-432E-8783-E9A42B919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882C9A-0930-4369-AE8D-3CC4F680F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79580-820F-476C-A82D-6DB783DB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C2EE46-0138-425F-913D-286DB5FC0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D8AF22-44B6-459C-9130-99506301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0B02BC-7A44-42DD-95F1-55D1AF1B3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DD58A6-91EA-4737-90BF-5CF3A9F35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94CE820-E944-4B3A-8693-305CB22D9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7ABAF69-A5AC-4854-98BC-AE0F69C6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19589-C5BD-4C7B-90C7-437FACE62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845A09-C8D1-469A-AE9E-8DCEFD53B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F2F1CC-3F54-4EDE-995F-4DD44544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ABA887-A0BD-447E-A68E-5FBFD117B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ED9B59-CADF-4B28-89CA-ACF8B35C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0554AF-FBCC-4007-A50C-A9DCB86D7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26AB11-5BFA-4F1E-8AC1-C58DB928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0AB5EAD-C2BB-49E1-BD85-5A2D35492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EFD548-28B9-4158-A317-418B04BB4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610AE1B-0CD2-4452-ADA3-D378E8E2C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705822-CEBB-43E2-84CB-C25FD6FE7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299EB-2F9E-4BE5-B250-B43389D7C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240819-4253-4DFA-8067-6DA67025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2A7AFA-CCC4-4FCC-95D5-2D42E498B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51C8E2-47DA-4F21-8E3F-0F93EADE0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DCF4FA-8297-45A0-88F9-7DB98074E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B3C899-862C-4E16-BD48-B02FB6431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7BD1F-B15C-42DB-9487-8BE37A983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F006B5-37D8-4AE4-832A-71C62866A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B93707-E6C0-4B90-B0DA-E45EFDF7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8BF738-1A8A-499E-9766-09E881DC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21C1D4-B24A-4215-BA2D-E4F6CF6117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44B7-E565-4613-97D8-110A0C74A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10C067-45F0-4452-B7F7-03782820B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582D68-9274-4A8C-84E3-E40C25B24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328384-6914-426E-987A-F5334781F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A1429E-3286-4919-8332-053B9A11F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C4DF80-DB0F-4E91-96A9-9E5E554D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17579E-8EC7-44DF-AFB4-C33CC8C49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D47B2-0C47-49DC-AE70-97611FE46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7C6FF3-0899-4B4E-A832-462450DC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44CA84-013C-4B0C-B4D9-1C0FE7A8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C23380-0D20-41DA-9BC8-7D7075568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A1AED-6F9B-4541-B14C-88A6E77C2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81196-69B4-4EB9-9039-D4B7E7532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145D79-6A4B-49C1-9BE9-B61D8B39C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8A92FC-4B61-43B3-87B6-34DA8B986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F926252-4CD0-443B-B477-BE89710A2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920D01-827A-499E-A920-5D6F4676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D9DFA-A91B-4B6C-A146-52FF0755B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B24B48-2040-4D06-9FEE-A378260F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AC3E73-6595-4717-A085-E14AA25A7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D6EB00-971E-4CCB-A5C9-1163806F2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17932E-D24F-42E2-956E-D38B4B632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A3E2D-FEAC-489C-8748-ED5A88A8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561F4-FB6D-43B4-AC3A-9ACB0714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EA693-B350-4BBE-B9D9-DF6C9915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CAD02A-3903-434D-BF9E-C6203195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9DB7CA-D66D-4E6E-AC99-6081E1F32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B0F40B-B769-4A93-AA3B-BC3F4CD00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BFB4F-5C2D-4097-8D73-EAA63287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7491FF-035C-4777-99B0-0ABEE63BA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06D0AA-A5DA-4545-96EA-A54B01104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1F2819-569F-4743-8C05-EA1C88C73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BAB836-18F1-478D-901B-59FA7175D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12E2-D87A-4B89-97F6-D54E5542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69427B-7D0C-4F2A-B3D1-423F20C6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286DD-AAC8-45A2-9F69-8AF163BC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6DBD5D-61AF-4FB6-9DBD-76E62AC42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999976-31C7-4CD9-B47E-2DD114970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31E8-98A9-4E4D-B6FA-E47CDB5A6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4B27F1-375C-4F64-9119-3650E0E13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7010EA-C621-4DB3-8181-76D938671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134181-59CE-4C43-8CBE-4C5CA00F2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542C84-6E59-43F0-AA21-E9B1D6F00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8B16F5-AA68-48BC-96B8-C87441918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ABCB-C7D9-4092-A45E-7937066810E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4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45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dt" idx="28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ftr" idx="29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sldNum" idx="30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CCBC9-B3F0-45AB-87B7-091FF0005A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dt" idx="3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ldNum" idx="3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E98EC-1783-4F1F-A60B-034C7466B3B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93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94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95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0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ftr" idx="3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64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64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dt" idx="3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 type="ftr" idx="3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3E050-C3A3-4616-9AA7-CB80DA17062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95D3C-56B5-4D45-86C4-647A75E4105B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10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10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1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C80A2-0246-43E4-AA48-24D7E4893B3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6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6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6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7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1B579-DA1A-454B-BF2E-9923F1769C5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2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33BE7-637C-4F9A-B58B-AAD7AD33C4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8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DED98-F09C-4F06-A3A5-D94885AD7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340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3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344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7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8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69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74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dt" idx="1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3EF1-49B1-4546-B30F-C87F862D3B79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7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418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422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5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6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447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52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2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E3517-9A57-4A32-A6CC-577F4BA5B99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95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3" name="PlaceHolder 1"/>
          <p:cNvSpPr>
            <a:spLocks noGrp="1"/>
          </p:cNvSpPr>
          <p:nvPr>
            <p:ph type="dt" idx="25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ftr" idx="26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 type="sldNum" idx="27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E3C44-C649-4BCC-ADDC-E7537E630F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9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7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7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76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image" Target="../media/image19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2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6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7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76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2.wmf"/><Relationship Id="rId5" Type="http://schemas.openxmlformats.org/officeDocument/2006/relationships/image" Target="../media/image12.wmf"/><Relationship Id="rId6" Type="http://schemas.openxmlformats.org/officeDocument/2006/relationships/image" Target="../media/image12.wmf"/><Relationship Id="rId7" Type="http://schemas.openxmlformats.org/officeDocument/2006/relationships/image" Target="../media/image12.wmf"/><Relationship Id="rId8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7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611280" y="1484280"/>
            <a:ext cx="7777080" cy="4032360"/>
          </a:xfrm>
          <a:prstGeom prst="rect">
            <a:avLst/>
          </a:prstGeom>
        </p:spPr>
        <p:txBody>
          <a:bodyPr wrap="none" lIns="90000" rIns="90000" tIns="46800" bIns="46800" anchor="t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трес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ужны ли нам стрессы?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Необходим, чтобы достичь пика в работ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Это двигатель прогресса в нашей жи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У каждого индивидуума свой пик продуктивности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Что нужно делать чтобы не </a:t>
            </a:r>
            <a:br>
              <a:rPr sz="4000"/>
            </a:b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пришли к моральному срыву?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229600" cy="4525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Балансировать свои нужд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Забота о себе и других в хорошем баланс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Виды стрессо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Положи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свадьба, рождение ребенка, выбор профессии, любовь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Verdana"/>
              </a:rPr>
              <a:t>Отрицательные: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нагрузка на работе, болезни, ссоры, финансовые и  семейные проблемы, смерть близких, страх, опасность, плохая окружающая среда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997000"/>
            <a:ext cx="8385120" cy="21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Эффекты стресса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395280" y="836640"/>
            <a:ext cx="79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b7"/>
                </a:solidFill>
                <a:latin typeface="Arial"/>
              </a:rPr>
              <a:t>РЕАКЦИЯ ОРГАНИЗМА НА ВНЕЗАПНЫЙ СТРЕССО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475920"/>
            <a:ext cx="777240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Физический: 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24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6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28" name="" descr=""/>
          <p:cNvPicPr/>
          <p:nvPr/>
        </p:nvPicPr>
        <p:blipFill>
          <a:blip r:embed="rId6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385120" cy="83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Моральный:</a:t>
            </a:r>
            <a:br>
              <a:rPr sz="4000"/>
            </a:b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забывчивость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сосредоточитьс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дражение , па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сложность принятия реш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убитое состоя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разочарование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385120" cy="11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Психически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торванность от общест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возможность выслушать другог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контролируемое время разгов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ищет шум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фокусировка на отрицательном эффек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нет сдержанности в общени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7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7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7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b7"/>
                </a:solidFill>
                <a:latin typeface="Arial Black"/>
              </a:rPr>
              <a:t>Духовный:</a:t>
            </a:r>
            <a:br>
              <a:rPr sz="4400"/>
            </a:b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теряют цель и смысл жизн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окружающи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 обвиняют Бо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"/>
          <p:cNvSpPr txBox="1"/>
          <p:nvPr/>
        </p:nvSpPr>
        <p:spPr>
          <a:xfrm>
            <a:off x="611280" y="1557360"/>
            <a:ext cx="8137440" cy="40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к предупредить стрес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8964720" y="6678720"/>
            <a:ext cx="179280" cy="179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0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" dur="328033" fill="hold"/>
                                        <p:tgtEl>
                                          <p:spTgt spid="7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04560" y="2166840"/>
            <a:ext cx="87627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ccecff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38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2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743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744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Verdana"/>
              </a:rPr>
              <a:t>Состояние,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возникающее при действии чрезвычайных или патолог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раздражителей</a:t>
            </a:r>
            <a:r>
              <a:rPr b="0" i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и приводящих к напряжению неспецифических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адаптационных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i="1" lang="en-US" sz="3200" spc="-1" strike="noStrike">
                <a:solidFill>
                  <a:srgbClr val="ffffff"/>
                </a:solidFill>
                <a:latin typeface="Verdana"/>
              </a:rPr>
              <a:t>механизмов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рганизма.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82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ecff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6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18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750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ffcc66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500"/>
                            </p:stCondLst>
                            <p:childTnLst>
                              <p:par>
                                <p:cTn id="7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1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440" y="83880"/>
            <a:ext cx="792468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РАЗУМНОЕ ПРИСПОСОБЛЕ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753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754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755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7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7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800" y="60120"/>
            <a:ext cx="7772400" cy="16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e5e5ff"/>
                </a:solidFill>
                <a:latin typeface="Garamond"/>
              </a:rPr>
              <a:t>ЗДОРОВЫЙ ОБРАЗ </a:t>
            </a:r>
            <a:r>
              <a:rPr b="0" lang="en-US" sz="5000" spc="-1" strike="noStrike">
                <a:solidFill>
                  <a:srgbClr val="e5e5ff"/>
                </a:solidFill>
                <a:latin typeface="Garamond"/>
              </a:rPr>
              <a:t>ЖИЗНИ</a:t>
            </a:r>
            <a:endParaRPr b="1" lang="en-US" sz="5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52640" y="1600200"/>
            <a:ext cx="403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761" name="" descr=""/>
          <p:cNvPicPr/>
          <p:nvPr/>
        </p:nvPicPr>
        <p:blipFill>
          <a:blip r:embed="rId2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762" name="" descr=""/>
          <p:cNvPicPr/>
          <p:nvPr/>
        </p:nvPicPr>
        <p:blipFill>
          <a:blip r:embed="rId3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763" name="" descr=""/>
          <p:cNvPicPr/>
          <p:nvPr/>
        </p:nvPicPr>
        <p:blipFill>
          <a:blip r:embed="rId4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29196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ЛАНИРОВАНИЕ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66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767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НЕ БЕСПОКОЙТЕСЬ О БУДУЩЕМ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28240" y="168120"/>
            <a:ext cx="8915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МЫШ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3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685800" y="168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ДУШЕВНЫЙ ПОКОЙ И ИСЦЕЛЕНИ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685800" y="307800"/>
            <a:ext cx="7772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ccecff"/>
                </a:solidFill>
                <a:latin typeface="Arial"/>
              </a:rPr>
              <a:t>ПОМОЩЬ ДРУГИМ</a:t>
            </a:r>
            <a:endParaRPr b="0" lang="en-US" sz="5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Verdana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33264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Verdana"/>
            </a:endParaRPr>
          </a:p>
          <a:p>
            <a:pPr marL="33264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ecff"/>
                </a:solidFill>
                <a:latin typeface="Arial"/>
              </a:rPr>
              <a:t>ДОВЕРИЕ БОГУ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3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784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685800" y="307440"/>
            <a:ext cx="7772400" cy="7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ХРИСТОС В СЕРДЦЕ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87" name="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/>
          </p:nvPr>
        </p:nvSpPr>
        <p:spPr>
          <a:xfrm>
            <a:off x="179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3" name=""/>
          <p:cNvSpPr txBox="1"/>
          <p:nvPr/>
        </p:nvSpPr>
        <p:spPr>
          <a:xfrm>
            <a:off x="395280" y="2492280"/>
            <a:ext cx="8352000" cy="20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Стресс = стрессор + реакция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694" name=""/>
          <p:cNvSpPr txBox="1"/>
          <p:nvPr/>
        </p:nvSpPr>
        <p:spPr>
          <a:xfrm>
            <a:off x="3132000" y="4221000"/>
            <a:ext cx="48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0%                                                     90%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p:transition>
    <p:push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685800" y="2588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e3e3ff"/>
                </a:solidFill>
                <a:latin typeface="Arial"/>
              </a:rPr>
              <a:t>СЕМЬ КЛЮЧЕЙ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1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2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3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4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5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796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eec94"/>
                </a:solidFill>
                <a:latin typeface="Times New Roman"/>
              </a:rPr>
              <a:t>Стресс – это не то, что случается с нами, а то, как мы реагируем на это  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1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тревоги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мобилизация исходных сил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2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резистентности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или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сопротивл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осознание и борьба с не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3 стадия – 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истощения: 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синдром приобретает</a:t>
            </a:r>
            <a:r>
              <a:rPr b="1" i="1" lang="ru-RU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Verdana"/>
              </a:rPr>
              <a:t>патогенный характер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7" name=""/>
          <p:cNvSpPr txBox="1"/>
          <p:nvPr/>
        </p:nvSpPr>
        <p:spPr>
          <a:xfrm>
            <a:off x="1619280" y="620640"/>
            <a:ext cx="64818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Общий адаптационный синдром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460440"/>
            <a:ext cx="777240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СТАДИИ СТРЕССА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ffffcc"/>
              </a:buClr>
              <a:buSzPct val="6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700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701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702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Определяется реактивностью организм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Реактивность зависит от: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наследственных свойств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ранее перенесенных воздействий;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- возраста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4" name=""/>
          <p:cNvSpPr txBox="1"/>
          <p:nvPr/>
        </p:nvSpPr>
        <p:spPr>
          <a:xfrm>
            <a:off x="1692360" y="404640"/>
            <a:ext cx="655164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99cc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Характер стресс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99cc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ccecff"/>
                </a:solidFill>
                <a:latin typeface="Arial"/>
              </a:rPr>
              <a:t>Исход стресс-реакции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врат к первоначальному состоянию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Возникновение болезни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Arial"/>
              </a:rPr>
              <a:t>БОЛЕЗНИ СВЯЗАННЫЕ СО СТРЕССОМ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8T05:29:31Z</dcterms:created>
  <dc:creator>cb</dc:creator>
  <dc:description/>
  <dc:language>en-US</dc:language>
  <cp:lastModifiedBy>cb</cp:lastModifiedBy>
  <dcterms:modified xsi:type="dcterms:W3CDTF">2006-03-19T18:34:47Z</dcterms:modified>
  <cp:revision>13</cp:revision>
  <dc:subject/>
  <dc:title>Стресс</dc:title>
</cp:coreProperties>
</file>